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140D-D175-4E31-A26E-D215A6B07A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4A72-6396-4801-9292-26B18D919B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A797-F402-4BB1-BC32-DE798DEA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2E93-BB63-4DB6-920C-C1DD3F2B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4C0-E9CA-4AB5-B4FB-9775F881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D87-54B4-446A-957A-F33FA91F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0FF-BD4B-4C98-A396-6BB402AF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E55-E758-4F57-9CE0-8D85A913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787F-C1D5-4407-B967-30995BED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F3A2-386C-41EB-AF79-69FDCDF2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A32-12EB-49CC-8DCA-88FD8511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D8DE-A378-4F45-9037-4ADB29FA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7D28-13EF-4A8A-BF88-9EAB55FC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226-9422-4732-B335-1316A74A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9B10-448A-48FD-895D-E2F5FCFC61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24000" y="1341360"/>
            <a:ext cx="85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Propisi"/>
                <a:ea typeface="Times New Roman"/>
              </a:rPr>
              <a:t>ой  ый  ий  ая  яя  ое  е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971640" y="126828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ься правильно писа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овые оконча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ён прилагательны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2"/>
          <p:cNvSpPr/>
          <p:nvPr/>
        </p:nvSpPr>
        <p:spPr>
          <a:xfrm>
            <a:off x="826920" y="1413000"/>
            <a:ext cx="70581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одня замечательный ден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дали старинная крепос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https://ds03.infourok.ru/uploads/ex/118b/0004a56a-9effdaee/img17.jpg"/>
          <p:cNvPicPr/>
          <p:nvPr/>
        </p:nvPicPr>
        <p:blipFill>
          <a:blip r:embed="rId1"/>
          <a:stretch/>
        </p:blipFill>
        <p:spPr>
          <a:xfrm>
            <a:off x="611280" y="33336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ешн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й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котёнок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сив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ый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цветок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еньк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й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айчик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льн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я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етель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л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е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ебо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2979720" y="1268280"/>
            <a:ext cx="647640" cy="4381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3132000" y="1916280"/>
            <a:ext cx="648000" cy="431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843280" y="3192480"/>
            <a:ext cx="647640" cy="3808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3355920" y="2554200"/>
            <a:ext cx="576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2736720" y="3782880"/>
            <a:ext cx="576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611280" y="907920"/>
            <a:ext cx="7921440" cy="31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Тема урока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авописание родовых окончани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мён прилагательны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611280" y="692280"/>
            <a:ext cx="7848360" cy="42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886040"/>
                <a:tab algn="l" pos="2647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Алгорит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886040"/>
                <a:tab algn="l" pos="2647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1. Найди имя существительное, определи его р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886040"/>
                <a:tab algn="l" pos="2647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2. Задай от имени существительного вопрос к имени прилагательно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886040"/>
                <a:tab algn="l" pos="2647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3. По роду имени существительного и вопросу определи род имени прилагатель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1886040"/>
                <a:tab algn="l" pos="2647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4. Выдели окончание.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63640" y="2133720"/>
          <a:ext cx="6624720" cy="2738160"/>
        </p:xfrm>
        <a:graphic>
          <a:graphicData uri="http://schemas.openxmlformats.org/drawingml/2006/table">
            <a:tbl>
              <a:tblPr/>
              <a:tblGrid>
                <a:gridCol w="828720"/>
                <a:gridCol w="827280"/>
                <a:gridCol w="828360"/>
                <a:gridCol w="828720"/>
                <a:gridCol w="827280"/>
                <a:gridCol w="828720"/>
                <a:gridCol w="1655640"/>
              </a:tblGrid>
              <a:tr h="45540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45360" rIns="45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" name="TextBox 2"/>
          <p:cNvSpPr/>
          <p:nvPr/>
        </p:nvSpPr>
        <p:spPr>
          <a:xfrm>
            <a:off x="2195640" y="494028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        2         3        4         5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971640" y="42544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1003320" y="41562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971640" y="37148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015920" y="32418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1114560" y="28018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я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1123920" y="23320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835280" y="2205000"/>
          <a:ext cx="4968720" cy="2739960"/>
        </p:xfrm>
        <a:graphic>
          <a:graphicData uri="http://schemas.openxmlformats.org/drawingml/2006/table">
            <a:tbl>
              <a:tblPr/>
              <a:tblGrid>
                <a:gridCol w="828720"/>
                <a:gridCol w="826920"/>
                <a:gridCol w="828720"/>
                <a:gridCol w="828720"/>
                <a:gridCol w="826920"/>
                <a:gridCol w="828720"/>
              </a:tblGrid>
              <a:tr h="45720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1886040"/>
                          <a:tab algn="l" pos="2647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Box 2"/>
          <p:cNvSpPr/>
          <p:nvPr/>
        </p:nvSpPr>
        <p:spPr>
          <a:xfrm>
            <a:off x="2195640" y="494028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        2         3        4         5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826920" y="422100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936720" y="41562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922320" y="37386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952560" y="32511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1058760" y="28004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я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089000" y="23367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0"/>
          <p:cNvSpPr/>
          <p:nvPr/>
        </p:nvSpPr>
        <p:spPr>
          <a:xfrm flipV="1">
            <a:off x="2644920" y="2625480"/>
            <a:ext cx="865080" cy="187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12"/>
          <p:cNvSpPr/>
          <p:nvPr/>
        </p:nvSpPr>
        <p:spPr>
          <a:xfrm>
            <a:off x="3500280" y="2646360"/>
            <a:ext cx="863640" cy="93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14"/>
          <p:cNvSpPr/>
          <p:nvPr/>
        </p:nvSpPr>
        <p:spPr>
          <a:xfrm flipV="1">
            <a:off x="4344840" y="3114720"/>
            <a:ext cx="863640" cy="466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16"/>
          <p:cNvSpPr/>
          <p:nvPr/>
        </p:nvSpPr>
        <p:spPr>
          <a:xfrm>
            <a:off x="5189400" y="3122640"/>
            <a:ext cx="768600" cy="925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/>
  <dc:description/>
  <dc:language>en-US</dc:language>
  <cp:lastModifiedBy>Кабинет №37</cp:lastModifiedBy>
  <dcterms:modified xsi:type="dcterms:W3CDTF">2021-03-10T12:52:08Z</dcterms:modified>
  <cp:revision>36</cp:revision>
  <dc:subject/>
  <dc:title>Заголовок слайда</dc:title>
</cp:coreProperties>
</file>